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5208-CBBD-49F3-B102-9C8162C7AB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152-34A9-4CFE-ADAF-69BB26D0C0E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0"/>
          <p:cNvSpPr/>
          <p:nvPr/>
        </p:nvSpPr>
        <p:spPr>
          <a:xfrm>
            <a:off x="0" y="0"/>
            <a:ext cx="9906120" cy="1081080"/>
          </a:xfrm>
          <a:prstGeom prst="rect">
            <a:avLst/>
          </a:prstGeom>
          <a:solidFill>
            <a:srgbClr val="005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Рисунок 17" descr="1.png"/>
          <p:cNvPicPr/>
          <p:nvPr/>
        </p:nvPicPr>
        <p:blipFill>
          <a:blip r:embed="rId2"/>
          <a:stretch/>
        </p:blipFill>
        <p:spPr>
          <a:xfrm>
            <a:off x="8850240" y="5848200"/>
            <a:ext cx="825480" cy="765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10960" y="6143760"/>
            <a:ext cx="1548000" cy="474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"/>
          <p:cNvSpPr/>
          <p:nvPr/>
        </p:nvSpPr>
        <p:spPr>
          <a:xfrm>
            <a:off x="0" y="0"/>
            <a:ext cx="9906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спекционные провер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210960" y="6143760"/>
            <a:ext cx="154800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2880" indent="-312840">
              <a:spcBef>
                <a:spcPts val="774"/>
              </a:spcBef>
              <a:buClr>
                <a:srgbClr val="ffffff"/>
              </a:buClr>
              <a:buFont typeface="Verdana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50920">
              <a:spcBef>
                <a:spcPts val="6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751040" indent="-249120">
              <a:spcBef>
                <a:spcPts val="550"/>
              </a:spcBef>
              <a:buClr>
                <a:srgbClr val="ccecff"/>
              </a:buClr>
              <a:buFont typeface="Verdana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4" marL="2251080" indent="-249120">
              <a:spcBef>
                <a:spcPts val="55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5" marL="2251080" indent="-24912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6" marL="2251080" indent="-24912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Фигура, имеющая форму буквы L 7"/>
          <p:cNvSpPr/>
          <p:nvPr/>
        </p:nvSpPr>
        <p:spPr>
          <a:xfrm>
            <a:off x="0" y="3979800"/>
            <a:ext cx="3119400" cy="2878200"/>
          </a:xfrm>
          <a:custGeom>
            <a:avLst/>
            <a:gdLst>
              <a:gd name="textAreaLeft" fmla="*/ 0 w 3119400"/>
              <a:gd name="textAreaRight" fmla="*/ 709200 w 3119400"/>
              <a:gd name="textAreaTop" fmla="*/ 0 h 2878200"/>
              <a:gd name="textAreaBottom" fmla="*/ 2878560 h 2878200"/>
            </a:gdLst>
            <a:ahLst/>
            <a:rect l="textAreaLeft" t="textAreaTop" r="textAreaRight" b="textAreaBottom"/>
            <a:pathLst>
              <a:path w="2879725" h="2879725">
                <a:moveTo>
                  <a:pt x="0" y="0"/>
                </a:moveTo>
                <a:lnTo>
                  <a:pt x="654705" y="0"/>
                </a:lnTo>
                <a:lnTo>
                  <a:pt x="654705" y="2221189"/>
                </a:lnTo>
                <a:lnTo>
                  <a:pt x="2879725" y="2221189"/>
                </a:lnTo>
                <a:lnTo>
                  <a:pt x="2879725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b4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623960" y="1166760"/>
            <a:ext cx="683748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2800" spc="-1" strike="noStrike">
                <a:solidFill>
                  <a:srgbClr val="003b76"/>
                </a:solidFill>
                <a:latin typeface="Arial"/>
              </a:rPr>
              <a:t>Инспекционные провер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Arial"/>
              </a:rPr>
              <a:t>(Осуществление контроля за соблюдением держателями сертификатов соответствия обязательств по обеспечению соответствия поставляемых средств связи установленным требованиям)</a:t>
            </a:r>
            <a:br>
              <a:rPr sz="26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ru-RU" sz="2000" spc="-1" strike="noStrike">
                <a:solidFill>
                  <a:srgbClr val="003b76"/>
                </a:solidFill>
                <a:latin typeface="Arial"/>
              </a:rPr>
              <a:t>И.С. Яр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ru-RU" sz="2000" spc="-1" strike="noStrike">
                <a:solidFill>
                  <a:srgbClr val="003b76"/>
                </a:solidFill>
                <a:latin typeface="Arial"/>
              </a:rPr>
              <a:t>Руководитель О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ru-RU" sz="2000" spc="-1" strike="noStrike">
                <a:solidFill>
                  <a:srgbClr val="003b76"/>
                </a:solidFill>
                <a:latin typeface="Arial"/>
              </a:rPr>
              <a:t>ЗАО «ЭРТЕЛ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ru-RU" sz="2000" spc="-1" strike="noStrike">
                <a:solidFill>
                  <a:srgbClr val="003b76"/>
                </a:solidFill>
                <a:latin typeface="Arial"/>
              </a:rPr>
              <a:t>Е.Н.Харитонова </a:t>
            </a:r>
            <a:br>
              <a:rPr sz="2000"/>
            </a:br>
            <a:r>
              <a:rPr b="0" i="1" lang="ru-RU" sz="2000" spc="-1" strike="noStrike">
                <a:solidFill>
                  <a:srgbClr val="003b76"/>
                </a:solidFill>
                <a:latin typeface="Arial"/>
              </a:rPr>
              <a:t>Руководитель ОС </a:t>
            </a:r>
            <a:br>
              <a:rPr sz="2000"/>
            </a:br>
            <a:r>
              <a:rPr b="0" i="1" lang="ru-RU" sz="2000" spc="-1" strike="noStrike">
                <a:solidFill>
                  <a:srgbClr val="003b76"/>
                </a:solidFill>
                <a:latin typeface="Arial"/>
              </a:rPr>
              <a:t>АНО «ЦЭС«Инфоком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Фигура, имеющая форму буквы L 14"/>
          <p:cNvSpPr/>
          <p:nvPr/>
        </p:nvSpPr>
        <p:spPr>
          <a:xfrm rot="10800000">
            <a:off x="6786360" y="0"/>
            <a:ext cx="3119400" cy="2635200"/>
          </a:xfrm>
          <a:custGeom>
            <a:avLst/>
            <a:gdLst>
              <a:gd name="textAreaLeft" fmla="*/ 0 w 3119400"/>
              <a:gd name="textAreaRight" fmla="*/ 709200 w 311940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2879725" h="2879725">
                <a:moveTo>
                  <a:pt x="0" y="0"/>
                </a:moveTo>
                <a:lnTo>
                  <a:pt x="654705" y="0"/>
                </a:lnTo>
                <a:lnTo>
                  <a:pt x="654705" y="2221189"/>
                </a:lnTo>
                <a:lnTo>
                  <a:pt x="2879725" y="2221189"/>
                </a:lnTo>
                <a:lnTo>
                  <a:pt x="2879725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5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" name="Бланк(цв)" descr=""/>
          <p:cNvPicPr/>
          <p:nvPr/>
        </p:nvPicPr>
        <p:blipFill>
          <a:blip r:embed="rId1"/>
          <a:stretch/>
        </p:blipFill>
        <p:spPr>
          <a:xfrm>
            <a:off x="506520" y="262080"/>
            <a:ext cx="3116160" cy="72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05680" y="6143760"/>
            <a:ext cx="154800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4520" y="3274920"/>
            <a:ext cx="928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200160" y="1125360"/>
            <a:ext cx="9505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266760">
              <a:lnSpc>
                <a:spcPct val="100000"/>
              </a:lnSpc>
              <a:buClr>
                <a:srgbClr val="003b76"/>
              </a:buClr>
              <a:buFont typeface="Arial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Постановление Правительства РФ от 13 апреля 2005 г. N 214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"Об утверждении Правил организации и проведения работ по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обязательному подтверждению соответствия средств связи"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b76"/>
              </a:buClr>
              <a:buFont typeface="Arial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266760">
              <a:lnSpc>
                <a:spcPct val="100000"/>
              </a:lnSpc>
              <a:buClr>
                <a:srgbClr val="003b76"/>
              </a:buClr>
              <a:buFont typeface="Arial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Приказ Минкомсвязи России от 1 февраля 2016 г. N 2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«Порядок осуществления контроля за соблюдением держателями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сертификатов соответствия и декларантами обязательств по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обеспечению соответствия поставляемых средств связи установленным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требованиям. Часть I. Порядок осуществления контроля за соблюдением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держателями сертификатов соответствия обязательств по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обеспечению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соответствия поставляемых средств связи установленным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требованиям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b76"/>
              </a:buClr>
              <a:buFont typeface="Arial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79280" indent="266760">
              <a:lnSpc>
                <a:spcPct val="100000"/>
              </a:lnSpc>
              <a:buClr>
                <a:srgbClr val="003b76"/>
              </a:buClr>
              <a:buFont typeface="Arial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ГОСТ 31815-2012. Дата введения 01.09.201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«Порядок проведения инспекционного контроля в процедурах 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b76"/>
                </a:solidFill>
                <a:latin typeface="Arial"/>
              </a:rPr>
              <a:t>сертификации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2880" y="2279520"/>
            <a:ext cx="93538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Держатель сертификат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беспечивает соответствие средств связи установленным требованиям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беспечивает беспрепятственное выполнение своих полномочий представителями 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ргана по сертификации и лицами, выполняющими инспекционные проверк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Орган по сертификац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Согласовывает программу ИП с держателем сертификата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существляет инспекционные проверки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Прекращает действие сертификата соответствия, при выявлении несоответствия 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средства связи установленным требованиям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Федеральная агентство связ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Исключает сертификат соответствия из реестра сертификатов соответствия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2536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Arial"/>
              </a:rPr>
              <a:t>Постановление правительства Р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Arial"/>
              </a:rPr>
              <a:t>от 18 апреля 2006 г. №2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2536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Приказ Минкомсвязи Росси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от 1 февраля 2016 г. №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2279520"/>
            <a:ext cx="935388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Держатель сертификат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бращается в суд в случае неправомерных действий органа по сертификаци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Орган по сертификац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Привлекает ИЛ к </a:t>
            </a:r>
            <a:r>
              <a:rPr b="1" lang="en-US" sz="1700" spc="-1" strike="noStrike">
                <a:solidFill>
                  <a:srgbClr val="003b76"/>
                </a:solidFill>
                <a:latin typeface="Arial"/>
              </a:rPr>
              <a:t>проведению испытаний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формляет заключение по инспекционной проверке с </a:t>
            </a:r>
            <a:r>
              <a:rPr b="1" lang="en-US" sz="1700" spc="-1" strike="noStrike">
                <a:solidFill>
                  <a:srgbClr val="003b76"/>
                </a:solidFill>
                <a:latin typeface="Arial"/>
              </a:rPr>
              <a:t>приложенными протоколами </a:t>
            </a:r>
            <a:r>
              <a:rPr b="1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3b76"/>
                </a:solidFill>
                <a:latin typeface="Arial"/>
              </a:rPr>
              <a:t>испытаний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Вручает заключение Держателю в течение </a:t>
            </a:r>
            <a:r>
              <a:rPr b="1" lang="en-US" sz="1700" spc="-1" strike="noStrike">
                <a:solidFill>
                  <a:srgbClr val="003b76"/>
                </a:solidFill>
                <a:latin typeface="Arial"/>
              </a:rPr>
              <a:t>2-х раб. дней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Отправляет копию заключения в Федеральное агентство связ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b76"/>
                </a:solidFill>
                <a:latin typeface="Arial"/>
              </a:rPr>
              <a:t>Испытательная лаборатория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b76"/>
                </a:solidFill>
                <a:latin typeface="Arial"/>
              </a:rPr>
              <a:t>Проводит испытания на основании договора с органом по сертификаци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25360"/>
            <a:ext cx="99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Arial"/>
              </a:rPr>
              <a:t>ГОСТ 31815-20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Arial"/>
              </a:rPr>
              <a:t>дата введения 1 сентября 2013 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272880" y="2133720"/>
            <a:ext cx="935388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рган по сертификац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Определяет объем проверки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Осуществляет сбор информации о сертифицированной продукции в течение срока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действия сертификата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Может использовать положительные результаты проверки для продления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сертификата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Принимает решение о прекращении действия сертификата в случае отказа держателя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сертификата от проведения или оплаты инспекционной проверк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Испытательная лаборатория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1440"/>
                <a:tab algn="l" pos="542880"/>
                <a:tab algn="l" pos="814320"/>
                <a:tab algn="l" pos="1085760"/>
                <a:tab algn="l" pos="1357200"/>
                <a:tab algn="l" pos="1628640"/>
                <a:tab algn="l" pos="1900080"/>
                <a:tab algn="l" pos="2171880"/>
                <a:tab algn="l" pos="2443320"/>
                <a:tab algn="l" pos="2714760"/>
                <a:tab algn="l" pos="2986200"/>
                <a:tab algn="l" pos="3257640"/>
                <a:tab algn="l" pos="3529080"/>
                <a:tab algn="l" pos="3800520"/>
                <a:tab algn="l" pos="4071960"/>
                <a:tab algn="l" pos="4343400"/>
                <a:tab algn="l" pos="4614840"/>
                <a:tab algn="l" pos="4886280"/>
                <a:tab algn="l" pos="5157720"/>
                <a:tab algn="l" pos="5429160"/>
                <a:tab algn="l" pos="570060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Может засчитать результаты собственных испытаний по согласованию с органом по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сертификаци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1280" y="1406520"/>
            <a:ext cx="9288360" cy="42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541440" indent="-541440"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Предлагаем разработать и внести следующие дополнения/измен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о порядке проведения инспекционных проверок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Arial"/>
              </a:rPr>
              <a:t>Приказ № 28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b76"/>
                </a:solidFill>
                <a:latin typeface="Arial"/>
              </a:rPr>
              <a:t>Органу по сертификации дать полномочия п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ринимать решения о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прекращении действия сертификата в случае отказа держателя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сертификата от проведения или оплаты инспекционной проверки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Разъяснить объем инспекционных проверок;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Разрешить продление сертификата соответствия на основе решения по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инспекционным проверкам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Arial"/>
              </a:rPr>
              <a:t>Постановление Правительства №214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41440" indent="-541440" algn="just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В случае невозможности продления срока действия сертификата соответствия,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отменить обязательства по проведению инспекционных проверок для схем 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3b76"/>
                </a:solidFill>
                <a:latin typeface="Arial"/>
              </a:rPr>
              <a:t>сертификации №1 и №2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2906280"/>
            <a:ext cx="9906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33:11Z</dcterms:created>
  <dc:creator>Haritonova</dc:creator>
  <dc:description/>
  <dc:language>en-US</dc:language>
  <cp:lastModifiedBy>Ivan</cp:lastModifiedBy>
  <dcterms:modified xsi:type="dcterms:W3CDTF">2016-10-05T06:07:00Z</dcterms:modified>
  <cp:revision>151</cp:revision>
  <dc:subject/>
  <dc:title>Автономная некоммерческая организация «Центр экспертизы и сертификации «Инфоком»</dc:title>
</cp:coreProperties>
</file>