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dt" idx="4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 type="sldNum" idx="4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14900C-8C42-455F-9025-AD2C27EAA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РМАТИВНЫЕ ПРАВОВЫЕ АКТЫ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СФЕРЕ ПРИМЕНЕНИЯ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РЕДСТВ СВЯЗИ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ДЕРЖАЩИЕ ТРЕБОВАНИЯ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ОБХОДИМЫЕ ДЛЯ РЕАЛИЗАЦИИ РАЗЛИЧНЫХ ТЕХНОЛОГИ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081B96-FBDD-479D-B8AB-B7434D530E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снованием для разработки Порядка контроля послужило положение пункта 4 Правил организации и проведения работ по обязательному подтверждению соответствия средств связи, утвержденных постановлением Правительства РФ от 13 апреля 2005 г. № 214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«4. Министерство связи и массовых коммуникаций Российской Федераци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пределяет порядок осуществления контроля за соблюдением держателями сертификатов соответствия и декларантами обязательств по обеспечению соответствия поставляемых средств связи установленным требованиям;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EBC44B-5393-4EB4-8AA9-8E44548056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8CEC95-194C-4264-AD75-9139090CBC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C187DD-BF03-452D-B071-734330B296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71451-06BA-4229-961A-0A43A5806F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1586E-70CF-468F-BA3C-2D5FA0A192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824B-B0E9-4585-BCD0-B7F5DED61A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BDFAB-ADCD-4B82-98B7-B715C19713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359F5-6284-414A-88BD-D50AF8480A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D38B1-AF7E-4356-BA90-2B999474FB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78DC8-A416-4FB5-A66F-4EFB6384BC4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1684B-BFD9-488F-8573-D3BCB5A771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4DBC-7400-4935-A8B1-2F57842FA3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D471D-D80B-4666-A4E4-56B243BAE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45AD9-BFF0-4C72-8C8A-6A8C32824A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1ABC8-46B5-43BB-8130-CA5187709A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FC016-2C8A-4C3A-A546-41FF630CFE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B0978-B83C-4F61-9086-71C3D7AB86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9603-0F0A-4B69-A15C-64F8CB9F7D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6B4D9-1B36-4D93-9208-A97AC50B48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371C0-0411-46B4-8EA0-F903ABBDCF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EB013-1938-4494-AA4F-E8F20D8A2F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E42BE-4DA4-4370-A48D-2AAA2E8174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2BCFC-F846-4CBE-9A26-494D88D8C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AED04-AD38-4C53-A558-1EC351F93C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B28-B8C5-43CE-8CAA-F646936EF2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437F-F831-44CF-9BBC-B3DC5BC999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587A-82D5-4290-A1D2-5B36D24D0B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43D-AF9A-4DEB-BFA1-38586B4D81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BBCE-3CFB-4AF2-A661-A5A7D02488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04CC-E5FA-4D20-A66F-26FF1A7FAF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139-B184-4217-BAFF-A44F2ECD88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7E4-CA86-4100-86E4-A4BB78A885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499-697D-4214-86D1-D4A436F23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9E35-3760-4A4A-A2B6-5C7AB76E9C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DDB-90D6-4E46-9F3B-715F40B5E94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45A1-3291-49A7-8788-A221F23195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C8563-6A47-4F39-A786-4A8AFE50B1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45C21-6A96-4B42-9C9E-09E2AFC582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A1536-5AD2-4A90-BC71-C3A7BC3C5B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09517-FA22-44DE-A36E-CB15C1AD77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23132-C1EA-4320-AF2F-07696379017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F6ECD-72A4-4331-BB0D-07A4ECAC13A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295CE-7E93-44D7-BBFF-F8296E814C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FE5B6-8261-4D19-9195-731AC57F1B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5858A-F3FA-4D20-B3A9-896933F82E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53489-AB18-467B-AF96-17BCCB7270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08E33-596B-4AEC-980B-BDB86455C7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5A307-80F9-4B07-841C-AADAAF40A6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D15A4-11EF-4890-BFFC-E40BE44B9A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1978C-DD29-4064-8A9C-8974B80F78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D1F3E-380C-4E89-9AF8-45204494AD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F1AD2-D69B-4A21-BFEC-226D06BD408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A4727-1C00-45A1-A0CC-A1EAFEF72F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B5949-25E2-402B-9A92-282FEF05EB2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185CC-9C0B-4812-B163-254B108A48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66F62-2C5D-47B9-A2A1-A5A96BAF27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9655F-C356-464C-B701-D83702EC82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9E6B6-5D26-45B7-B0BE-DD373C42C5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8CCE3-58A8-4702-B4A0-BD3E3202853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BD51C-B1FB-4187-B01A-71BB3041F5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F23C-4F21-4AC9-AF1F-836F666F8F1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328C-9989-4865-8A0C-4EE8E96B30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BB51-26D3-4D4C-9FD8-0DE217778E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2406-F8D2-46A0-8DB6-AF8660B3AA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CD44-9787-4312-A158-F32DA71A4A4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E072-1C16-48A6-95BC-9FE58EE6500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2F3A-A621-4D45-8131-57929B97003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3780-4721-434A-8550-2E2AD2032DF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9494-95CC-4A9A-AE65-2551016870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2823-8956-4D8D-A22D-0323A52AA75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340A-9D98-4FB2-B6E0-AF97AB8E88E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8B4F-FF33-42F9-8AB3-32374659B60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AACBF-517E-48B7-A6FD-EF2F0EDBD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8C439-88E3-4223-8AD6-32E2915D27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E7AE3-5446-477E-83D0-0B7653FDCE6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76D70-9BBD-4EAA-A572-DDABB26E57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3C21A-88A8-4110-9EC9-169ED471885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FAAE4-2663-4FD2-9CA0-F38E04B9632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E8FD9-9099-4E43-AAFB-3A3E8F0865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14933-0CD7-43C3-A8D9-0F2169C95D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56EDD-CAC7-43CF-A88A-A1B83E3BBC0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D0842-9773-4F1E-B4EF-2FFB621527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E21B3-2B83-4BA5-9C65-353EBB7A47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38B35-3EE8-4516-AA69-D0EB182599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FAB4C-87B7-46C4-92C3-BEA5A468301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F8BA4-9179-4C11-BC1D-419C71756C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AF80C-77F4-4397-B7AE-EDFE8447787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65A90-D9E5-40DD-901A-3FABB2B5AE0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852F5-A76B-4EB6-83E9-0D11C7E9E90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D3C1E-15EE-4276-A2C4-78E317F4EF0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7A4B4-E17F-4D90-8F30-ADDDC60213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1840D-5689-4FC9-9153-4D1C4E148AF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5422F-5CB8-4F5A-97ED-86BB96BEA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50EF6-ECBF-41EB-AF7B-4E4DE18C6C0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9B05E-E16E-42B6-8668-1C74CE2660F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7BBF2-332A-439E-8F12-34179FE2AD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3541A-8125-4637-B0E2-607C1BC00DE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388C-17B8-437D-9D2D-45D7FEE1F8B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11BE-47F3-411B-B7F4-72BA5ADD5D9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F770-5135-4148-9FF0-084200D9F30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2494-1FE7-4833-9F1A-8334354EF7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BC4E-21B8-47B7-90AD-1112F48A446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4562-DF05-4110-9435-A34DC8D08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A584-6528-424E-B469-11A50F711EC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A66B-0E6D-46C8-B211-1C6B6412BE9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D5D5-7434-4809-8CD3-EEEC235940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A237-0C65-498C-9E38-29C64F6A8FF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CA36-FCB7-4DC3-BE63-BD0245FD944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50C7D-63BC-4A3C-BBA4-C2F8E9FA7AC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D4B1A2-ED9D-454D-984C-19A0E91DCD1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29AC8-82B0-42DD-8E58-80592842212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D24F3-A70B-408A-A92C-C6CD13EB47D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525CD8-C5BB-4592-BF4D-438E9EDFFD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9D9CC-3846-4C3E-8B60-E27250E895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2DA23-51AC-4732-9BCF-9F05B34E384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E3B2A-7B0F-46F7-B168-429729DF091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91B22-831B-4730-85B3-43F81BAC85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5FB09D-252F-4AA9-85C9-49FDE39369A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8487E-3011-4621-B431-1A8BA5D3A16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35BE5-4E18-4C89-B170-EDB07153538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00901-2DB6-4D26-9EA8-EF25BF1A49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D2C49-72F8-42B4-8D3B-1DC6E41C284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EAA28-B804-4A9D-8E5F-942E0593E4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9A8D9-1D94-4E26-A5D3-134D35276BB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D5072-1973-4AC1-B644-53BB16DCAC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88E14-BBD6-4F84-A5B4-C146763733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B3CC2-FC5D-437E-AD42-8AE1CBC6705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6D585-BF4A-4EAF-A41C-F87B1734758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DCB3A-471B-4A5D-8D21-87795FDFFD1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B7322-B7EF-4B20-9A26-819EFCCE036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94B5F-7744-4D74-919C-980F1738D30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C2777-2C38-4AAC-BA22-8C3DED05272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944B-0436-417B-8089-B86A0C7FC3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8475-EE90-42D0-AB65-D3C1A25A570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5056-6152-4608-8C5B-9C8AA5A6FB7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CB6C-D99E-406E-BBBE-AC7F33DB28D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1FC5-2D27-4A05-B809-FFA7372031F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8369-43F3-44D7-A741-D0998ADFEC8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A7D3-373F-451C-BBC6-9D943165D59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5ACF-53C5-4924-A333-65839B19556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100E-AF91-4785-B870-5825E60AECE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5EB3-253F-41AB-B0CB-1B7FA1DC4C6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43A3-75CB-4200-9982-FB43F303D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04A5-733F-4AE3-9704-F13392FBD7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D0F5D7-2411-4337-972D-A454C010F8F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3C5E4-F0A0-4B62-9C1E-43D8C13727D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006D6-513C-4680-B4D1-A04B1871A2C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9E341-8FBB-4E79-8D62-FA69B9E685F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33460-5229-4D78-BDAF-28C8C674D3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10C14-ADC9-4306-B435-C40BED11C5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F9B0C-53DE-4295-AAFA-65291CF4056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3E6F4-14DA-495A-B3F6-C05F238D37D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BD5CC-DBD1-43DC-9AFF-5EBAEAA0DC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352F5-DDC7-4B4F-949D-6D3A0AAC27F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4DD5A-EFC1-427F-8883-2D9CBA997DE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54E56-80A3-43ED-B1CE-6709E5A595C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55B29-8D75-4467-BBC0-D89153D2597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E62F4-4E5A-4D22-8963-169450AE7F5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7D2FE-DA86-47C5-9F92-CAA21B63B77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A1E95-8C50-4920-BA45-179A319C377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D3030-4713-44FD-AC78-AFDFE9CDC3C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1F448-3518-441B-B028-63CBC7A8840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CF983-D2BE-49D8-BF49-9D1071C4F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5B998-7BFC-4395-B84B-191DAF8B4B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85E7A-97FB-47EC-8DD5-642D80F6FF9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7AB2E-9245-4FA2-8BFD-CC679A02E49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1CBEF-F650-4775-842F-6D9F75784D8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71EEC-A137-44B4-9DB4-71B01B182F5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4771-7BDF-4DED-9D5A-883F3EB0EF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1FB7-A81A-4C5B-BD19-DB46A873CF1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68E5-E843-4837-A2CB-38A3A84554A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6091-D447-4706-9088-3908F8A4467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3F20B-4213-4CEF-A5E3-BF47466D9C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925F-6E10-4D68-8B52-DADA45A4F30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CF800-5779-46C7-853B-972C2535B51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A1CE-8B5F-4186-A372-6BD7FBAC27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E6A6-4BD4-4635-8390-7910717A58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46757-96C0-4FA3-BCB6-6378A5448E3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EA39-814D-4549-9413-E02A464A7A0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12E0-2EE2-4041-8861-5C25A0BCA5D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A438F8-B630-44BE-948C-94A7DDF6E3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E97658-F5C8-4755-8751-E1B19ADDAB7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657C0-F906-4A06-BB48-8B650F2D19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1CB90-A3DA-4F94-A11D-72B8653583B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E5C6C-56F7-495B-93D1-23D615E78A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2ABD1-22E1-40D3-806C-3B3DA7E30A3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40E83-630D-42DE-AE31-4D402F7EE24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AA1AD-474A-4E88-AA45-7461BC22ABC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2985F-FC3C-465F-886C-9B1B2116FB6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A35697-5F42-4899-932A-ED9266FC5F5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1C2BA7-C113-4733-93F0-2E1F4AA31CC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6FFE3A-2946-4283-816D-2CE0D72EC33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A84B5-E303-4F1B-A4A5-4EBC171F03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05201-0621-48EB-83C6-17583792796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638E8-5ECD-4EE3-8426-F4EB6AA8E64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12456-D126-4281-9E70-D45C63827A6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87CE3-409C-4BE9-96D0-DDBE2CD510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3E955-FF47-4E69-BE18-3306F5606F4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D236B-A222-4137-BCFD-0994F6C6808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336D1-9E77-49E9-9251-E14CB76818C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7AB26-85BF-4BE1-A595-2CEA2884A6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FD612-72F8-405E-8612-6E42C08B5F6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9B554-0ED5-4035-BBB7-744E75DB5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0A21D-2BBD-44F5-A6A1-80BB659E3B9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0AA10-E635-4AB7-BE39-DF2EAF59D5B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BA1F-98A0-4885-A31B-47D8BDB5B44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1EE7C-22EE-4696-97F2-4CFB7ACAD30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941D-489E-4887-AAD9-1DD1F03FBF4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D7D0-8043-4FD6-B8CB-F4A7C8136F9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0CA4D-81B9-4FD3-81DC-F050876A8F2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7336-A019-4849-828E-AB420CAF686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FEF03-4050-4017-8DA2-E41729384F0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A31E8-359A-421C-A83D-F2A2C89B07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D68C-3B1C-48C0-BA9C-07CCB3234E6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0DF5-6851-43F4-A208-F44DE50ED94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8035-66E0-4CA8-8940-0E151951CC7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C15463-F8DF-4EA7-9203-683476D3416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C48BC-8096-4179-918F-3B75EDFAD06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A37A0-C967-4495-96A4-6D95BF3F29F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8F75D9-A1B5-4801-86B1-52D9203FCEA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A06697-2788-45A9-BC0D-76B9FA8A83E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EF1AD8-F144-4415-91E6-AFFEFF112B7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46EE59-5792-4EAA-A86E-5615E27B00A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3F0DC-2FEB-43C1-9D46-21CF7C48A76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1FF07-932B-4949-8BC5-27B21D9A13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5B521C-6779-4B27-9038-F0D8099D4EA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AF942F-ED35-4665-9384-2C817433A37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418FBB-121F-4749-A913-A55B1FDA8F9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BCAA23-A309-4F81-8325-882D702EA0D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EB0A3-F9B7-4BBE-A9B4-440FF3B8D35E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E55C6-7025-42BC-9778-EB8CDBF3F22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D8813-8EA5-4347-BEC5-0129748A1B5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8EC47-C8EF-4894-9777-07B6F663B64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1CE2C-5257-4EB1-8238-DD6C8B97E5F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F2CD5-91E3-495D-AD63-78E4CF5EA0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6B883-622A-427A-8A6E-944F015F143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ACD81-0716-4907-AA00-3BE8053E8F5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32160-BBDC-4F75-9F7B-8FBBC1F5BFB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1B698-7D04-4265-B1F8-5A84A732F55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ED1AA-0B2C-4C95-8756-3B2E6B1398A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5D7F-AC16-42E4-AB51-B67E16F7BB5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0984F-B786-4E41-AB02-5A835B8F7BA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A667F-6B4E-4BA6-B27D-871E2F28FD8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08DE-B04D-49B2-8B65-DC59F4B89DD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A19FB-AE7E-48F1-859F-5212E58D1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E12D-6F38-43EC-85FC-1C44AF2227B0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AF7F-6E3B-446F-9594-73BCB74C300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3670-6478-409E-B5CB-155AC1189AA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AD483-D147-4E26-97A8-3799FE2C353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9AF41-D30E-4A8A-BA84-B5DE4C64285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F129C-1245-4432-B74A-C212325EA93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DE73-A709-4BCC-8FEA-8467B337F5C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A1096-771A-4D7F-AEE1-B896FE83E82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14BF4-3D3C-4057-9620-76894AA4910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F7E80-29C8-47DF-9C50-585314C3D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713A6-55DF-4CFA-866F-8AD048ACA11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6FE5D-4216-42F2-A445-C4E8A1B0862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DC503-64D0-41ED-AC80-0BBFC793D54E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8723A-FB58-4C85-947B-3CD99A332CF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B6F4B-3C21-4820-A561-5EEC78701CC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EDD24-1D93-467F-9909-E4FBFFB8B88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5D753-AB8F-4C20-9493-852DB120E32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0A6F7-C191-4DD2-A3BB-998F55C6CF0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FD794-8C5C-4E6E-B669-1865A1BE99C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C0DF6-1871-4B9A-83EB-ABF095FA6C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FD10D-5DC0-4662-A0FC-5AB66625833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E106B5-679E-4B2A-849F-0F0DD8506310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E1B56-E8F4-46F6-992A-2B0B9B38A19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4A1EF-FB1C-440C-A130-3DE0F0999C1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7CE33-D110-4A9D-BF1B-4FC01773A45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8C7EE-5C4D-4B65-A97B-54344C15BA2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2FCD1-ECDE-4D93-9D93-7A8B8601476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F5195-7BFD-4AF6-97FF-48F86FDE811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6BF23-A483-412E-B2F0-6F4C6BC0735D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F509D-4190-4EFC-94D7-D9225EE7A9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B5181-DDCD-4E82-ACE4-D4079CFC5DB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B9BE-6F1E-4BF2-8AA2-CE9C045D13C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745BE-4C37-4648-9BFC-24F849077E64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3826-D980-466D-865D-E8A16090FA4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B0933-96D8-45B8-9685-9D5B01889A0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6115C-BB4C-4958-A0C4-8A793A451526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50AB4-FB53-4B93-AE82-54DADD60D408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93D18-2BC2-497F-A3D7-A45E31DE1AC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E5A6-2087-41CD-92D2-92DAA69D9A4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100AF-56EC-4A77-AD42-E0DFD06057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602AB-EAF7-43EA-9446-32B7EF8156D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D8C29-4C53-454B-8EB1-4842DA9ECFE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3BE14-064E-4D8B-BBBA-D3D671B3397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DCF35-8AB3-4BDE-9D84-AF54F637971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C415E-11CA-4612-900D-F91E8D2C150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9607D-62D7-4E81-83E3-2B5A142A5C5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BD6C7-628F-47FB-97E4-88CBCF9B341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2B889-CDD1-457F-895B-8DA57BFD221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3EEF-CD27-4B06-B07F-23D968C18AE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5793A-0CCB-496E-9540-E38E5F8388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6C962-73E7-4876-984E-60805E5E62B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BF470-6FF7-4C6E-9F30-F771D6FED56D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33FF5-5EE3-4441-B7E0-6159CA8531AF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0B3A1-9951-4B98-8E85-3CBF59D78D0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8A3BB-E21F-4A18-93AC-A7C117E5F2A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2ACA7-BC5C-4D8B-8682-BAA68B75903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9E7DA6-C403-4B3E-90DB-A5D143496EB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C7F836-76F8-4EB6-BF25-03F329B710C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63165-29C9-481B-AFA9-A1FBF9A2918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40B92D-AB98-4417-9CE8-0659EE3570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6D7AB-FBE8-41F4-A630-B8DC20DB22A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A971DE-4076-472F-A45A-338FF1EB3A9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5FAE8F-EB01-43E7-90A9-55ED0E3CA65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452B79-C84A-491A-BD92-7C38664CA75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446A93-3012-4CE6-B497-3CEAA3FC26F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ED8244-8715-43DB-8A02-598D726CB631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396519-AAF2-49CF-B520-31AB86D6D11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0F20D-4305-4CBF-AC3E-85F0279E1AD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1DBDA-FB57-47D2-BF0F-C2AE9E8834E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1036B-7C14-465B-ADF0-6F4665DB55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CE9F1-4B0B-4ADD-A433-47E1937F6F9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D32DA-0EE6-432B-B543-83BE0AE88CD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576B1-5AF1-47D3-A8CF-45BD8377AF4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9D92C-41FE-4C00-AAFC-55ED8DF5938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7E564-39EE-4FF3-8ADA-100E7C5B42C6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59F3F-EBF4-4E27-92D2-060ED8D8740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D3799-A11D-4AF5-B6B8-F7ACCC6769A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BE10E-B6B6-4C2F-B987-63752366F08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E684A-4DD1-4614-9D06-F55563CE8F0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6BDDE0-FC18-498E-86CA-D9B8E84C4C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D681EB-D5B3-477C-81CA-210D592CFC6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BB327-CD17-457B-9750-39DBAA49CEC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E06272-E63F-4376-9936-A844B2CD6B8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4D0EAF-8F50-442B-8A55-5B08D15C758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90F9C5-DD93-4A53-B019-4306346EA08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EE0C4F-BEC7-4F75-90B3-D2B2CB7505D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8A5461-973F-435E-A35F-B6C0A87BDB4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937B44-979A-4857-BCF3-E7A823773CF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F297A5-F1D0-49BA-B008-F77AE787604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3208B9-7387-4341-9A8A-8DD26DE1D2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6C20F1-7FC2-49DA-A4AA-D53DBC23CE5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4C22B3-2667-4D54-BBF5-2D8A70EBF263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4B4743-DCC0-4269-9D25-A143A591D9A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B0EB3E-6A02-4EAF-B6B9-94B5DB050886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74E4BD-8B7E-46C3-B886-F4A7DF091D9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71FD11-54BC-4837-86E0-763A1F7A7BB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3A0200-F976-4022-85EB-6047108C518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D6A3C2-4A3B-4C08-B3D3-69B3C3B41C4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D7A563-CB0A-418E-AD7B-8B512DF59DC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70157-E7BC-4398-958F-62E8547403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B5EEDE-DBC0-4E0B-BD31-6B407F89A5A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C79B20-7FEF-47C3-AA1F-6109890CC668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AA3F4-6B58-4081-8C36-C852F048C6BA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25393-BF85-4EF7-AEF5-B81CD521889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4ED6C-291E-42AF-B9C1-FDC55DFEE1E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7471-CA15-45EA-BF3A-9915CD8C549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B925D-5713-4777-9144-8A87B9B39DA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F229-653B-4E70-8233-4E8AC53EDE2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00781-F4E8-487A-8F54-ABBC5C05FC1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9CBD4-EC66-47EF-88CE-7C860A6D6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7887-6681-475D-90B8-6CA7B798741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4BD7-FCE5-4224-99D0-351C50EF44E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9CDA4-87E1-4EFD-9609-FFB0F4C1F94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2D1E-67FF-4F6F-9EAC-76CE456FFE2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03102-516A-4383-A7C4-5DB32C8D5DC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A7FCB-A61E-41AE-BF88-9C4332B395EC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4E2C7-21A8-463E-AC85-26EEEED1EAC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C8C8D-8F36-4955-9120-AAB727CF6DA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C5D4F-71C1-40AC-948E-742AD0E8F5CA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CA19A-6E54-408F-A2C3-063D5F7120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D0632-4534-425E-B0CE-AD4BE48BEFE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2EDC9-DA2F-4B9F-A191-7DC14E008F3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49B2F-7BA2-4810-96AE-23A06ADF438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36735-1BD5-44CA-B3A9-A0C13C3417E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8D010-B625-4265-8124-448C855C5CC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46917-3896-4E75-BFD5-715249332CF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754F4-A4ED-46C3-8F36-78CA0F4B401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ECC502-FDC0-42C4-A90D-6381DBB2B0A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6B43A-6C0B-4A41-BFE5-0845E844F21B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4DD5ED-C6C3-4818-A889-46A164F213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4330E7-F815-4261-A717-5125F6BD575F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417D27-4E63-4FEE-A021-F3A451F6E4A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E68B3-98EA-4C03-A4AF-114AD65D0029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44F14-E022-4AE2-8BD8-F52EC108A1BB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6ABD58-AA21-43D3-9FE9-4219C9F4989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73D2E-4F57-48B7-A8F3-5D121D159A97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9B9F4D-60F2-4022-B6B8-1716AF3B0EA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726A91-9704-48B8-8CD0-23CC7D6A6A94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2F7275-34FD-468E-B28E-7304FE2447C2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090CE-3CA0-4C76-BECE-923E445D10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391DF-917A-493C-8120-95C982FF518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C74E6-AAB4-4D48-BF03-D058BF680A5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09146-C988-44C2-91FE-3C7A7F37C60C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878CF-F607-4AE7-B3C5-78F4202E615B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17FD-06BD-46FF-A716-8BC9AD9FD7F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18C4D-187E-4679-9DBD-C41B8FC3EC69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35A9-AA65-420F-8D6A-B39DE3E4F30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D8BB-FEF0-4397-AFC1-4377EF8B16E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78DE6-6006-49AF-BA41-13A740164C5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AE0D9-6A00-46D4-AC02-DCFA1DFE5C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568A7-B1B5-4B8C-94F8-F1DE6207E36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660B50-9A93-473C-8BA4-7233ECC59D8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3C0001-3B82-4F4B-9670-60EB821534B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9CDF1C-1A59-4BF4-AC9D-D9784EFFD1D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D80329-D1DA-4287-BD38-FBD5706E1B9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0A245E-AD07-4778-82C3-BBDD6CB6908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2499B4-D5BD-4A1C-AF7F-B4AA795E173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7C8A61-3A76-4BD1-BB7B-CF1176A34F3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5A416C-3DFF-4FB6-83E4-7667F4ED815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0C5974-4542-434D-86A2-141A8449E3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73812E-FCB3-4166-89DC-D1CA55323E6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EEA80A-CEBF-4F09-91BA-CE898B40E5D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C3271F-A668-4943-AF88-A2B901E53C0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6AC48D-537A-46AC-AD04-95E88375D79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0410C0-830C-4E45-9EFA-26DBE0FE6CC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61A1A-EB93-445E-B6D8-26B4DEA7BAC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A30D3-7854-4177-BB71-49B425A1FFF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DDE9D-17A0-4A44-8D42-6CE71312B7D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3F76FA-1935-418E-94CC-07EC050C447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9DEBA-640E-4055-A739-4BEBBC7895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27F5F-5D89-4605-8FF0-E546FC2A84E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60B2C0-5645-455A-BA48-28997369337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FA6430-C83D-4E0D-B4C2-E5893B22F95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6BE1F6-8A7F-4E93-B456-1813A3C275B9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3E3EA-2719-461F-A50E-1FF521BE2575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DC6CB-4C39-4FF0-AA22-C291C6C7988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6A42F-D06A-4512-8C7D-0512B1184DD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7AC04-C0ED-47BF-AB6C-874150CEE85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6F323-B95F-4CBA-BD59-6563A2F47383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BE1E9-D29B-4B7E-8FAF-9515A81B2E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DD747-FBF3-4D12-BA03-E9C8F0D62E86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50329-46F6-4778-A015-1D3A086EFBC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DC85D-434D-4031-8B07-EBA2B8B562F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861DD-15BA-4235-B738-FC8795B1E3B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56C46-6AA7-4FB8-875E-6B12426F185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96A82-DC30-4648-9A99-2EFE5C5051D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CD61E-222D-446E-89E2-A65EB0C96B5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BE4599-D168-4D83-AB6C-DD9949B60F0C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03BA1E-F2D5-4C33-A366-C44AA570FC6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82330B-C923-4708-BAAC-9D674BBF9F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03F23B-DEFE-4BD8-8404-8B30980CE1DC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3FFA8A-D502-4564-94A8-5C0233F122C1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783A48-F6D3-49DF-ADB4-D74148836CC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E8D2C5-84E2-4A65-A154-0B5F63C95182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F46773-7315-43F8-8791-E92AC1EE460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1D6838-B001-4C84-B2F7-C822DE96F25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7083DD-72FC-4EF8-8A2A-4D3E3BD400E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E2D2AB-EBE0-4066-AC4C-D181B3E77D33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9780CC-AB87-4DEF-BFB2-0F279A7BFFBB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9892E6-2B3E-4B7A-98E1-B49432CC8C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1ED18C-F8C3-49D9-A653-5359AB32D3F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38C092-0E09-4289-BDC3-44E2014DBD2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2C1404-137B-4833-A715-C19DB54FD10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D00A15-D412-4004-BAEC-8862524384CF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BBEFCC-8B84-4122-9B27-700B5B1091D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D0766F-15F9-4286-89C0-BEB8059DBAD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37C17D-ACD8-441F-81C3-D382C0D65BD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65E0D3-FCBE-40CA-8C9B-CA630DFBCEC5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D0ACA1-8A39-4257-9BCF-F5327C394601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981BDD-55D6-4F36-BF35-E4638D6D8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647AF5-7B26-44EB-ACE7-E5E1138A6043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80EDA-7A81-4F8F-B663-AAEF5A630EEB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8887F-4D46-472D-969F-D8A8E8E0804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A07EF-46B7-490F-8E6C-39219DC0723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AA594-DCE1-438B-941F-A5ACC3283DE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707C2-90A0-4683-AE24-7DE0D9B7E4E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A26EC-631E-45E9-93B6-DF229347D6B0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7670B-4594-4DF5-8035-45C6DB1DBF1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AE293-27B8-4B5C-923E-C7A45AA0F890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297E9-5E5C-40F1-9C78-139EB26D44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1A4-CC23-4042-8203-8AA7A14BAF4E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3311F-3657-45A6-BCB0-B644B72CC032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F7AF1-C804-4F96-8A20-D915FBCCFFA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E3DA3-1820-4F9D-9B44-628D295BD11D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B765-68DF-4C08-8E93-B798361E450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82DB-86B0-48B5-9BA6-23451E1657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8C8A-76F3-4481-900C-67C4D55A26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618E-5289-4B6B-A58C-D56F0ABCA8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4C75-7FCB-4851-B49C-B4910E5FBB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EDD6-9326-444C-B803-FCC4F04EF7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BF57-7CBC-484B-A905-61462A4D8E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708B-8580-446B-9C03-DAC304436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CAF5-CD3B-4CB4-9E79-FC3ADD74AA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1E14-9E8B-4B21-B8FE-7FA2A211CF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D97A-587E-465B-A3FD-135550FBBD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5C2F-8B46-4BCD-8420-458BE31F9E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9FCD-8ED3-4C30-A0C2-120D550A46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E1B3-60D8-428B-B8D9-D470803D6F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C5BB-9E91-453B-B5FD-50C11721B4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8FED-BEEE-4AB4-94E8-17066D1D68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69D2-1FEC-4377-BD15-30D5424C50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E7EF-AE25-4B26-BC1B-991AA7954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38E4-DF66-4EEC-B0F5-2B2CD55A44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56D5-BB38-4DBC-A0DF-5EF4ECAEB8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9CCB-EEEB-4801-A763-50BF789307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F0AF-C852-4A0C-A477-DE55EE9D3A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3CF6-9CA7-4F3A-8D10-1F5B492557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E8A-C963-4B17-B8DB-16DF7FCCCCD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2C9-9871-43DE-96E0-1416EA12DB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640-63C0-42BD-905B-B1C3EAAE90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ABB-276B-4BDB-AEA7-E1DE893007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A77-85D6-44ED-AD20-A1B12DEAD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8A-EC23-41E5-860F-BD1595A9AE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B04-0CBA-43B1-94E2-B82D4ADA33B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341-1329-4964-9851-2A03202B56A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7B8-027A-403C-A9A1-CC1F8D65F1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DB8-606C-40C7-829D-CD9D3CB4FA1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0F4-6526-4AF5-9129-F33F09FA52D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C02-17CC-492A-8B5A-135ECD3AD3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A9C1F-B466-4660-91BF-49B74261EB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75A1D-05F9-4CC4-B2F7-9053B59CBA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7B626-1722-497F-9F84-762653C02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Num" idx="5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8F29ED66-C8F6-4A0C-AABA-551B86E3FD5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Num" idx="6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FB59418-62CF-461C-8522-EAC6B21295F7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Num" idx="7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A8E8676D-6D34-43E7-88A6-DC3820D780A1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Num" idx="8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333C0E96-3844-4E64-8F71-911072C05177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Num" idx="9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D9BA9A97-CA55-4319-8749-DB1D4F116FE9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Num" idx="10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B2DB98B4-62CC-49CB-BD1F-533F32581F94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Num" idx="11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8091F5D3-C7F8-4012-AE55-AFED4C2AAD6F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Num" idx="12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7EADACDE-C8F5-4803-9172-8D4F1EB5E354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704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Num" idx="13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C450267-5962-4AFB-8602-A6FCE04FF87C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Num" idx="14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ED4BB3EF-4B3F-4452-8708-B51CB2F479B9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789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Num" idx="15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4E52469-F56A-4C4C-907D-54090B814404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830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Num" idx="16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839B753A-E522-4BEE-8023-0E7EB2757A8B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872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Num" idx="17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B2EC5CDC-2926-4769-91D4-3950B47B4F09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915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Num" idx="18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66A4F509-7F5C-4402-B242-BCF274630E8D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955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6" name="Picture 2" descr="C:\Users\eletkina\Documents\templ2.jpg"/>
          <p:cNvPicPr/>
          <p:nvPr/>
        </p:nvPicPr>
        <p:blipFill>
          <a:blip r:embed="rId3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sp>
        <p:nvSpPr>
          <p:cNvPr id="957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Num" idx="19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6DFF0ACC-5950-40FE-9248-7B11FC698AC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997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8" name="Picture 2" descr="C:\Users\eletkina\Documents\templ2.jpg"/>
          <p:cNvPicPr/>
          <p:nvPr/>
        </p:nvPicPr>
        <p:blipFill>
          <a:blip r:embed="rId3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sp>
        <p:nvSpPr>
          <p:cNvPr id="99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Num" idx="20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156D9853-4A3A-4DA1-9722-BC5952220814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040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1" name="Picture 2" descr="C:\Users\eletkina\Documents\templ2.jpg"/>
          <p:cNvPicPr/>
          <p:nvPr/>
        </p:nvPicPr>
        <p:blipFill>
          <a:blip r:embed="rId3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sp>
        <p:nvSpPr>
          <p:cNvPr id="104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Num" idx="21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FB04FD3-D51C-4459-AFA5-4169D0EBAA7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Прямоугольник 1"/>
          <p:cNvSpPr/>
          <p:nvPr/>
        </p:nvSpPr>
        <p:spPr>
          <a:xfrm>
            <a:off x="3440160" y="0"/>
            <a:ext cx="6465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Заголовок 1"/>
          <p:cNvSpPr/>
          <p:nvPr/>
        </p:nvSpPr>
        <p:spPr>
          <a:xfrm>
            <a:off x="3440160" y="2708280"/>
            <a:ext cx="64879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2" name="Группа 3"/>
          <p:cNvGrpSpPr/>
          <p:nvPr/>
        </p:nvGrpSpPr>
        <p:grpSpPr>
          <a:xfrm>
            <a:off x="415800" y="1484280"/>
            <a:ext cx="2689200" cy="3697200"/>
            <a:chOff x="415800" y="1484280"/>
            <a:chExt cx="2689200" cy="3697200"/>
          </a:xfrm>
        </p:grpSpPr>
        <p:pic>
          <p:nvPicPr>
            <p:cNvPr id="1083" name="Picture 2" descr="C:\Users\eletkina\Documents\orel_Minsvyaz_outlines_grey.jpg"/>
            <p:cNvPicPr/>
            <p:nvPr/>
          </p:nvPicPr>
          <p:blipFill>
            <a:blip r:embed="rId2"/>
            <a:srcRect l="0" t="13722" r="0" b="13250"/>
            <a:stretch/>
          </p:blipFill>
          <p:spPr>
            <a:xfrm>
              <a:off x="487800" y="2736000"/>
              <a:ext cx="2368440" cy="24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2" descr="C:\Users\eletkina\Documents\templ2.jpg"/>
            <p:cNvPicPr/>
            <p:nvPr/>
          </p:nvPicPr>
          <p:blipFill>
            <a:blip r:embed="rId3"/>
            <a:srcRect l="27491" t="0" r="0" b="0"/>
            <a:stretch/>
          </p:blipFill>
          <p:spPr>
            <a:xfrm>
              <a:off x="415800" y="1484280"/>
              <a:ext cx="2689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2" descr="C:\Users\eletkina\Documents\orel_Minsvyaz_outlines_grey.jpg"/>
          <p:cNvPicPr/>
          <p:nvPr/>
        </p:nvPicPr>
        <p:blipFill>
          <a:blip r:embed="rId2"/>
          <a:srcRect l="0" t="13722" r="0" b="13250"/>
          <a:stretch/>
        </p:blipFill>
        <p:spPr>
          <a:xfrm>
            <a:off x="488880" y="2736720"/>
            <a:ext cx="2367000" cy="2444760"/>
          </a:xfrm>
          <a:prstGeom prst="rect">
            <a:avLst/>
          </a:prstGeom>
          <a:ln w="0">
            <a:noFill/>
          </a:ln>
        </p:spPr>
      </p:pic>
      <p:sp>
        <p:nvSpPr>
          <p:cNvPr id="1124" name="Прямоугольник 2"/>
          <p:cNvSpPr/>
          <p:nvPr/>
        </p:nvSpPr>
        <p:spPr>
          <a:xfrm>
            <a:off x="57240" y="893880"/>
            <a:ext cx="3240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</a:t>
            </a:r>
            <a:r>
              <a:rPr b="1" lang="ru-RU" sz="2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the Russian Fed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Прямоугольник 3"/>
          <p:cNvSpPr/>
          <p:nvPr/>
        </p:nvSpPr>
        <p:spPr>
          <a:xfrm>
            <a:off x="3440160" y="5950080"/>
            <a:ext cx="6467400" cy="907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Прямоугольник 4"/>
          <p:cNvSpPr/>
          <p:nvPr/>
        </p:nvSpPr>
        <p:spPr>
          <a:xfrm>
            <a:off x="3440160" y="0"/>
            <a:ext cx="6465960" cy="93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640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Прямоугольник 1"/>
          <p:cNvSpPr/>
          <p:nvPr/>
        </p:nvSpPr>
        <p:spPr>
          <a:xfrm>
            <a:off x="3440160" y="0"/>
            <a:ext cx="6465960" cy="93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Прямоугольник 2"/>
          <p:cNvSpPr/>
          <p:nvPr/>
        </p:nvSpPr>
        <p:spPr>
          <a:xfrm>
            <a:off x="3440160" y="5950080"/>
            <a:ext cx="6467400" cy="93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Прямоугольник 3"/>
          <p:cNvSpPr/>
          <p:nvPr/>
        </p:nvSpPr>
        <p:spPr>
          <a:xfrm>
            <a:off x="3440160" y="1052640"/>
            <a:ext cx="6481800" cy="475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Прямоугольник 4"/>
          <p:cNvSpPr/>
          <p:nvPr/>
        </p:nvSpPr>
        <p:spPr>
          <a:xfrm>
            <a:off x="3440160" y="1052640"/>
            <a:ext cx="185760" cy="19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2" descr="C:\Users\eletkina\Documents\orel_Minsvyaz_outlines_grey.jpg"/>
          <p:cNvPicPr/>
          <p:nvPr/>
        </p:nvPicPr>
        <p:blipFill>
          <a:blip r:embed="rId2"/>
          <a:srcRect l="0" t="13722" r="0" b="13250"/>
          <a:stretch/>
        </p:blipFill>
        <p:spPr>
          <a:xfrm>
            <a:off x="488880" y="2736720"/>
            <a:ext cx="2367000" cy="2444760"/>
          </a:xfrm>
          <a:prstGeom prst="rect">
            <a:avLst/>
          </a:prstGeom>
          <a:ln w="0">
            <a:noFill/>
          </a:ln>
        </p:spPr>
      </p:pic>
      <p:sp>
        <p:nvSpPr>
          <p:cNvPr id="1168" name="Прямоугольник 6"/>
          <p:cNvSpPr/>
          <p:nvPr/>
        </p:nvSpPr>
        <p:spPr>
          <a:xfrm>
            <a:off x="57240" y="893880"/>
            <a:ext cx="3240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</a:t>
            </a:r>
            <a:r>
              <a:rPr b="1" lang="ru-RU" sz="2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the Russian Fed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440160" y="0"/>
            <a:ext cx="6465960" cy="93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440160" y="5950080"/>
            <a:ext cx="6467400" cy="93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3"/>
          <p:cNvGrpSpPr/>
          <p:nvPr/>
        </p:nvGrpSpPr>
        <p:grpSpPr>
          <a:xfrm>
            <a:off x="415800" y="1484280"/>
            <a:ext cx="2689200" cy="3697200"/>
            <a:chOff x="415800" y="1484280"/>
            <a:chExt cx="2689200" cy="3697200"/>
          </a:xfrm>
        </p:grpSpPr>
        <p:pic>
          <p:nvPicPr>
            <p:cNvPr id="75" name="Picture 2" descr="C:\Users\eletkina\Documents\orel_Minsvyaz_outlines_grey.jpg"/>
            <p:cNvPicPr/>
            <p:nvPr/>
          </p:nvPicPr>
          <p:blipFill>
            <a:blip r:embed="rId2"/>
            <a:srcRect l="0" t="13722" r="0" b="13250"/>
            <a:stretch/>
          </p:blipFill>
          <p:spPr>
            <a:xfrm>
              <a:off x="487800" y="2736000"/>
              <a:ext cx="2368440" cy="24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" descr="C:\Users\eletkina\Documents\templ2.jpg"/>
            <p:cNvPicPr/>
            <p:nvPr/>
          </p:nvPicPr>
          <p:blipFill>
            <a:blip r:embed="rId3"/>
            <a:srcRect l="27491" t="0" r="0" b="0"/>
            <a:stretch/>
          </p:blipFill>
          <p:spPr>
            <a:xfrm>
              <a:off x="415800" y="1484280"/>
              <a:ext cx="2689200" cy="1084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grpSp>
        <p:nvGrpSpPr>
          <p:cNvPr id="1206" name="Группа 2"/>
          <p:cNvGrpSpPr/>
          <p:nvPr/>
        </p:nvGrpSpPr>
        <p:grpSpPr>
          <a:xfrm>
            <a:off x="1066680" y="250920"/>
            <a:ext cx="46080" cy="581040"/>
            <a:chOff x="1066680" y="250920"/>
            <a:chExt cx="46080" cy="581040"/>
          </a:xfrm>
        </p:grpSpPr>
        <p:sp>
          <p:nvSpPr>
            <p:cNvPr id="1207" name="Прямоугольник 3"/>
            <p:cNvSpPr/>
            <p:nvPr/>
          </p:nvSpPr>
          <p:spPr>
            <a:xfrm>
              <a:off x="1066680" y="250920"/>
              <a:ext cx="46080" cy="145800"/>
            </a:xfrm>
            <a:prstGeom prst="rect">
              <a:avLst/>
            </a:prstGeom>
            <a:solidFill>
              <a:srgbClr val="195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Прямоугольник 4"/>
            <p:cNvSpPr/>
            <p:nvPr/>
          </p:nvSpPr>
          <p:spPr>
            <a:xfrm>
              <a:off x="1066680" y="396720"/>
              <a:ext cx="46080" cy="14436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Прямоугольник 5"/>
            <p:cNvSpPr/>
            <p:nvPr/>
          </p:nvSpPr>
          <p:spPr>
            <a:xfrm>
              <a:off x="1066680" y="541440"/>
              <a:ext cx="46080" cy="145800"/>
            </a:xfrm>
            <a:prstGeom prst="rect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Прямоугольник 6"/>
            <p:cNvSpPr/>
            <p:nvPr/>
          </p:nvSpPr>
          <p:spPr>
            <a:xfrm>
              <a:off x="1066680" y="687600"/>
              <a:ext cx="4608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1" name="Прямоугольник 7"/>
          <p:cNvSpPr/>
          <p:nvPr/>
        </p:nvSpPr>
        <p:spPr>
          <a:xfrm>
            <a:off x="1270080" y="208080"/>
            <a:ext cx="2292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Прямоугольник 1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9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250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Num" idx="22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1D5661AC-BA62-40A5-BC41-AD5CB707C7EF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291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Num" idx="23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A88A7BAA-E010-48FA-B680-D98AC42882B0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333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Num" idx="24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EF45A5D4-B65E-4E09-88EC-DF2D9A8FB59E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374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Num" idx="25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34E1BDE4-8AF4-4830-889B-3F3C54DE115F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416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Num" idx="26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FE533726-0661-4A0E-96ED-73FEED6C0770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Num" idx="27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2C451BB-9805-4376-A159-E6E7AE6331BA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500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Num" idx="28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E998D440-9948-4197-84B5-FED8D260E3AB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542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Num" idx="29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E668EE45-8E61-4E27-8977-7B2245F03859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585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Num" idx="30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D1F4AB8C-90F0-4B65-AA14-38634BB8C691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3440160" y="0"/>
            <a:ext cx="6465960" cy="936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440160" y="5950080"/>
            <a:ext cx="6467400" cy="93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3"/>
          <p:cNvGrpSpPr/>
          <p:nvPr/>
        </p:nvGrpSpPr>
        <p:grpSpPr>
          <a:xfrm>
            <a:off x="415800" y="1484280"/>
            <a:ext cx="2689200" cy="3697200"/>
            <a:chOff x="415800" y="1484280"/>
            <a:chExt cx="2689200" cy="3697200"/>
          </a:xfrm>
        </p:grpSpPr>
        <p:pic>
          <p:nvPicPr>
            <p:cNvPr id="116" name="Picture 2" descr="C:\Users\eletkina\Documents\orel_Minsvyaz_outlines_grey.jpg"/>
            <p:cNvPicPr/>
            <p:nvPr/>
          </p:nvPicPr>
          <p:blipFill>
            <a:blip r:embed="rId2"/>
            <a:srcRect l="0" t="13722" r="0" b="13250"/>
            <a:stretch/>
          </p:blipFill>
          <p:spPr>
            <a:xfrm>
              <a:off x="487800" y="2736000"/>
              <a:ext cx="2368440" cy="24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C:\Users\eletkina\Documents\templ2.jpg"/>
            <p:cNvPicPr/>
            <p:nvPr/>
          </p:nvPicPr>
          <p:blipFill>
            <a:blip r:embed="rId3"/>
            <a:srcRect l="27491" t="0" r="0" b="0"/>
            <a:stretch/>
          </p:blipFill>
          <p:spPr>
            <a:xfrm>
              <a:off x="415800" y="1484280"/>
              <a:ext cx="2689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Прямоугольник 6"/>
          <p:cNvSpPr/>
          <p:nvPr/>
        </p:nvSpPr>
        <p:spPr>
          <a:xfrm>
            <a:off x="3440160" y="1052640"/>
            <a:ext cx="6481800" cy="475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440160" y="1052640"/>
            <a:ext cx="185760" cy="19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626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Num" idx="31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194C4D86-B84A-49DC-A562-067AFA046305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668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Num" idx="32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9A68415-9C54-45F0-821E-020697B64060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0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711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Num" idx="33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5F8BDB8D-CAD7-4960-A613-37A78F9BB395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1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752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Num" idx="34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F8113AF-9EA7-4F36-843D-901A7BF3A70B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794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Num" idx="35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5F08B783-F3F8-43A1-9299-5B53F5E51BB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837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Num" idx="36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7CD5A3B1-5E74-445A-97AC-AD93429F3077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7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878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Num" idx="37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F03085D9-B071-43BC-BBE9-A2B0C8E96C40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9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920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Num" idx="38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940A7256-7A82-4CD4-BA0F-6BCEDB61E275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2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1963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Num" idx="39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055AD1B-CACB-41F1-ABD7-4266F87134DE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004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Прямоугольник 5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Num" idx="40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6A05A9B9-EF7C-4198-8E45-2C6CF37AFDB6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grpSp>
        <p:nvGrpSpPr>
          <p:cNvPr id="157" name="Группа 2"/>
          <p:cNvGrpSpPr/>
          <p:nvPr/>
        </p:nvGrpSpPr>
        <p:grpSpPr>
          <a:xfrm>
            <a:off x="1066680" y="250920"/>
            <a:ext cx="46080" cy="581040"/>
            <a:chOff x="1066680" y="250920"/>
            <a:chExt cx="46080" cy="581040"/>
          </a:xfrm>
        </p:grpSpPr>
        <p:sp>
          <p:nvSpPr>
            <p:cNvPr id="158" name="Прямоугольник 3"/>
            <p:cNvSpPr/>
            <p:nvPr/>
          </p:nvSpPr>
          <p:spPr>
            <a:xfrm>
              <a:off x="1066680" y="250920"/>
              <a:ext cx="46080" cy="145800"/>
            </a:xfrm>
            <a:prstGeom prst="rect">
              <a:avLst/>
            </a:prstGeom>
            <a:solidFill>
              <a:srgbClr val="195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Прямоугольник 4"/>
            <p:cNvSpPr/>
            <p:nvPr/>
          </p:nvSpPr>
          <p:spPr>
            <a:xfrm>
              <a:off x="1066680" y="396720"/>
              <a:ext cx="46080" cy="14436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Прямоугольник 5"/>
            <p:cNvSpPr/>
            <p:nvPr/>
          </p:nvSpPr>
          <p:spPr>
            <a:xfrm>
              <a:off x="1066680" y="541440"/>
              <a:ext cx="46080" cy="145800"/>
            </a:xfrm>
            <a:prstGeom prst="rect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Прямоугольник 6"/>
            <p:cNvSpPr/>
            <p:nvPr/>
          </p:nvSpPr>
          <p:spPr>
            <a:xfrm>
              <a:off x="1066680" y="687600"/>
              <a:ext cx="4608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" name="Picture 2" descr="C:\Users\eletkina\Documents\templ2.jpg"/>
          <p:cNvPicPr/>
          <p:nvPr/>
        </p:nvPicPr>
        <p:blipFill>
          <a:blip r:embed="rId3"/>
          <a:srcRect l="27495" t="0" r="0" b="0"/>
          <a:stretch/>
        </p:blipFill>
        <p:spPr>
          <a:xfrm>
            <a:off x="1243080" y="90360"/>
            <a:ext cx="2319120" cy="93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5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046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Прямоугольник 6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Num" idx="41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CD7D232F-D29A-4627-9A7D-38D85163FD22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C:\Users\eletkina\Documents\templ2.jpg"/>
          <p:cNvPicPr/>
          <p:nvPr/>
        </p:nvPicPr>
        <p:blipFill>
          <a:blip r:embed="rId2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089" name="Прямоугольник 2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Прямоугольник 4"/>
          <p:cNvSpPr/>
          <p:nvPr/>
        </p:nvSpPr>
        <p:spPr>
          <a:xfrm>
            <a:off x="8265960" y="282600"/>
            <a:ext cx="159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of the Russian Fed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sldNum" idx="42"/>
          </p:nvPr>
        </p:nvSpPr>
        <p:spPr>
          <a:xfrm>
            <a:off x="6105600" y="259920"/>
            <a:ext cx="2133360" cy="5763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2D9A8C8-C323-4F8E-AEA5-C9DC02B793E2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Прямоугольник 1"/>
          <p:cNvSpPr/>
          <p:nvPr/>
        </p:nvSpPr>
        <p:spPr>
          <a:xfrm>
            <a:off x="3440160" y="0"/>
            <a:ext cx="6465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5349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0" name="Picture 2" descr="C:\Users\eletkina\Documents\orel_Minsvyaz_outlines_grey.jpg"/>
          <p:cNvPicPr/>
          <p:nvPr/>
        </p:nvPicPr>
        <p:blipFill>
          <a:blip r:embed="rId2"/>
          <a:srcRect l="0" t="13722" r="0" b="13250"/>
          <a:stretch/>
        </p:blipFill>
        <p:spPr>
          <a:xfrm>
            <a:off x="488880" y="2736720"/>
            <a:ext cx="2367000" cy="2444760"/>
          </a:xfrm>
          <a:prstGeom prst="rect">
            <a:avLst/>
          </a:prstGeom>
          <a:ln w="0">
            <a:noFill/>
          </a:ln>
        </p:spPr>
      </p:pic>
      <p:sp>
        <p:nvSpPr>
          <p:cNvPr id="2131" name="Прямоугольник 3"/>
          <p:cNvSpPr/>
          <p:nvPr/>
        </p:nvSpPr>
        <p:spPr>
          <a:xfrm>
            <a:off x="57240" y="893880"/>
            <a:ext cx="3240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Minist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and Mass Medi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of</a:t>
            </a:r>
            <a:r>
              <a:rPr b="1" lang="ru-RU" sz="2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f7f7f"/>
                </a:solidFill>
                <a:latin typeface="Calibri"/>
              </a:rPr>
              <a:t>the Russian Fed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Заголовок 1"/>
          <p:cNvSpPr/>
          <p:nvPr/>
        </p:nvSpPr>
        <p:spPr>
          <a:xfrm>
            <a:off x="3440160" y="3073320"/>
            <a:ext cx="6465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Num" idx="1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0DFCE37B-1F7C-4C59-BF15-CD0D1D25B1D9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Num" idx="2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37587286-A0F1-4FDD-B623-C7AA26C9E5AA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Num" idx="3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FA5418DC-562A-444A-9DF3-E94C206B35A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eletkina\Documents\templ2.jpg"/>
          <p:cNvPicPr/>
          <p:nvPr/>
        </p:nvPicPr>
        <p:blipFill>
          <a:blip r:embed="rId2"/>
          <a:srcRect l="27490" t="0" r="0" b="0"/>
          <a:stretch/>
        </p:blipFill>
        <p:spPr>
          <a:xfrm>
            <a:off x="8319960" y="277920"/>
            <a:ext cx="1386000" cy="558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eletkina\Documents\templ2.jpg"/>
          <p:cNvPicPr/>
          <p:nvPr/>
        </p:nvPicPr>
        <p:blipFill>
          <a:blip r:embed="rId3"/>
          <a:srcRect l="0" t="0" r="76999" b="0"/>
          <a:stretch/>
        </p:blipFill>
        <p:spPr>
          <a:xfrm>
            <a:off x="200160" y="90360"/>
            <a:ext cx="736560" cy="9352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3"/>
          <p:cNvSpPr/>
          <p:nvPr/>
        </p:nvSpPr>
        <p:spPr>
          <a:xfrm>
            <a:off x="1058760" y="249120"/>
            <a:ext cx="46080" cy="582840"/>
          </a:xfrm>
          <a:prstGeom prst="rect">
            <a:avLst/>
          </a:prstGeom>
          <a:solidFill>
            <a:srgbClr val="195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33"/>
          <p:cNvSpPr/>
          <p:nvPr/>
        </p:nvSpPr>
        <p:spPr>
          <a:xfrm>
            <a:off x="4680" y="1197000"/>
            <a:ext cx="9906120" cy="452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marL="177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Текст 2"/>
          <p:cNvSpPr/>
          <p:nvPr/>
        </p:nvSpPr>
        <p:spPr>
          <a:xfrm>
            <a:off x="200160" y="1197000"/>
            <a:ext cx="8640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Num" idx="4"/>
          </p:nvPr>
        </p:nvSpPr>
        <p:spPr>
          <a:xfrm>
            <a:off x="6105600" y="294840"/>
            <a:ext cx="2133360" cy="27324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ru-RU" sz="25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0F1C7188-A1E8-49CE-8FD7-CB6C3394BD33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Схема 2" descr=""/>
          <p:cNvPicPr/>
          <p:nvPr/>
        </p:nvPicPr>
        <p:blipFill>
          <a:blip r:embed="rId1"/>
          <a:stretch/>
        </p:blipFill>
        <p:spPr>
          <a:xfrm>
            <a:off x="3468600" y="920880"/>
            <a:ext cx="6461280" cy="4821120"/>
          </a:xfrm>
          <a:prstGeom prst="rect">
            <a:avLst/>
          </a:prstGeom>
          <a:ln w="0">
            <a:noFill/>
          </a:ln>
        </p:spPr>
      </p:pic>
      <p:sp>
        <p:nvSpPr>
          <p:cNvPr id="2177" name="Прямоугольник 1"/>
          <p:cNvSpPr/>
          <p:nvPr/>
        </p:nvSpPr>
        <p:spPr>
          <a:xfrm>
            <a:off x="3584520" y="5950080"/>
            <a:ext cx="622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ая конференция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роведение работ по подтверждению соответствия инфокоммуникационного оборудования и услуг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– 7  окт. 2016 г., Соч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8F382329-FFE4-48BE-BEB3-C47171596254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Этапы проведения вне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ициирование внеплановой инспекционной провер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9" name="Picture 296" descr=""/>
          <p:cNvPicPr/>
          <p:nvPr/>
        </p:nvPicPr>
        <p:blipFill>
          <a:blip r:embed="rId1"/>
          <a:srcRect l="21973" t="0" r="0" b="58259"/>
          <a:stretch/>
        </p:blipFill>
        <p:spPr>
          <a:xfrm>
            <a:off x="701640" y="2133720"/>
            <a:ext cx="8788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5249228-A904-417D-BFDD-9373EEEB4D8C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Этапы проведения вне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рганизация проведения внеплановой инспекционной провер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3" name="Picture 300" descr=""/>
          <p:cNvPicPr/>
          <p:nvPr/>
        </p:nvPicPr>
        <p:blipFill>
          <a:blip r:embed="rId1"/>
          <a:srcRect l="0" t="26674" r="0" b="47112"/>
          <a:stretch/>
        </p:blipFill>
        <p:spPr>
          <a:xfrm>
            <a:off x="227160" y="2492280"/>
            <a:ext cx="9450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464F4894-588A-4B49-99ED-093C0921FBCD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Этапы проведения вне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Действия при соответствии требованиям проверяемого средства связ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7" name="Picture 171" descr=""/>
          <p:cNvPicPr/>
          <p:nvPr/>
        </p:nvPicPr>
        <p:blipFill>
          <a:blip r:embed="rId1"/>
          <a:srcRect l="0" t="16000" r="0" b="31962"/>
          <a:stretch/>
        </p:blipFill>
        <p:spPr>
          <a:xfrm>
            <a:off x="111240" y="1916280"/>
            <a:ext cx="968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168C92C6-0C9F-404C-8EDB-593CC067ACF5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Этапы проведения вне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Действия при несоответствии требованиям проверяемого средства связ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1" name="Picture 242" descr=""/>
          <p:cNvPicPr/>
          <p:nvPr/>
        </p:nvPicPr>
        <p:blipFill>
          <a:blip r:embed="rId1"/>
          <a:srcRect l="0" t="17454" r="0" b="0"/>
          <a:stretch/>
        </p:blipFill>
        <p:spPr>
          <a:xfrm>
            <a:off x="71280" y="1700280"/>
            <a:ext cx="9759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B0F73144-33E5-4C87-97E8-1CB862C1B87A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Право держателя сертификата соответствия на обжалов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1192320" y="1844640"/>
            <a:ext cx="7432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ел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а соответствия вправе обратиться в суд с заявлением о неправомерных действиях органа по сертификации при проведении инспекционной проверки и прекращении действия сертификата соответств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признания судом прекращения действия сертификата соответствия необоснованным Федеральное агентство связи вправе обратиться в Федеральную службу по аккредитации с предложением о проведении в рамках  федерального государственного контроля за деятельностью аккредитованных лиц внеплановой проверки деятельности органа по сертификации, без достаточных оснований прекратившего действие сертификата соответ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5" name="Группа 1"/>
          <p:cNvGrpSpPr/>
          <p:nvPr/>
        </p:nvGrpSpPr>
        <p:grpSpPr>
          <a:xfrm>
            <a:off x="3657600" y="4869000"/>
            <a:ext cx="6095880" cy="1746000"/>
            <a:chOff x="3657600" y="4869000"/>
            <a:chExt cx="6095880" cy="1746000"/>
          </a:xfrm>
        </p:grpSpPr>
        <p:sp>
          <p:nvSpPr>
            <p:cNvPr id="2226" name="Прямоугольник 2"/>
            <p:cNvSpPr/>
            <p:nvPr/>
          </p:nvSpPr>
          <p:spPr>
            <a:xfrm>
              <a:off x="3657600" y="4869000"/>
              <a:ext cx="6095880" cy="1746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Прямоугольник 3"/>
            <p:cNvSpPr/>
            <p:nvPr/>
          </p:nvSpPr>
          <p:spPr>
            <a:xfrm>
              <a:off x="3657600" y="4869000"/>
              <a:ext cx="609588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ветник Департамента регулирования радиочастот и сетей связ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инистерства связи и массовых коммуникац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оссийской Федераци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.З. Ковалевск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495-771-80-00 доб. 89-1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577A55FF-EBEB-49A5-A26D-88F32C4AEF71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Приказ и цель регулир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704880" y="549360"/>
            <a:ext cx="8712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1" name="Picture 7" descr=""/>
          <p:cNvPicPr/>
          <p:nvPr/>
        </p:nvPicPr>
        <p:blipFill>
          <a:blip r:embed="rId1"/>
          <a:srcRect l="0" t="17380" r="0" b="0"/>
          <a:stretch/>
        </p:blipFill>
        <p:spPr>
          <a:xfrm>
            <a:off x="-15840" y="1703520"/>
            <a:ext cx="9801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F20F7F69-04EA-4B85-AA28-B9867393FDEA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Основание для разработки Порядка контрол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1424160" y="2637000"/>
            <a:ext cx="7200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анием для разработки Порядка контроля послужило положение пункта 4 Правил организации и проведения работ по обязательному подтверждению соответствия средств связи, утвержденных постановлением Правительства РФ от 13 апреля 2005 г. № 2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CAD20057-ED81-48F7-8B9A-D2D588E185DE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Основание для осуществления  инспекционного контрол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560160" y="1483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троль за соблюдением держателями сертификатов соответствия обязательств по обеспечению соответствия поставляемых средств связи установленным требованиям осуществляется органом по сертификации, выдавшим заявителю сертификат соответствия, в соответствии с пунктами 7 и 27 Правил организации и проведения работ по обязательному подтверждению соответствия средств связи, утвержденных постановлением Правительства РФ от 13 апреля 2005 г. № 214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 по сертифик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существляет инспекционный контроль за сертифицированными средствами связи, если это  предусмотрено схемой сертифик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7. осуществляет инспекционные проверки сертифицированных средств связи, если это  предусмотрено схемой сертифик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27146E35-8C72-49B7-AE0B-A02C0A8CE8CF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Виды инспекционных провер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704880" y="2781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облюдением держателями сертификатов соответствия обязательств по обеспечению соответствия поставляемых средств связи установленным требования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уществляется органом по сертификации посредством проведен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лановых и внеплановы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нспекционных провер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тифицированных средств свя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9F948783-50B7-48F9-B66A-4AC98FBCA82D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Результаты инспекционных провер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704520" y="16286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проведению испытаний в ходе инспекционной провер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 по сертификации привлекает аккредитованну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ответствии с законодательством РФ об аккредитации в национальной системе аккредитаци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ытательную лабораторию (центр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которой заключает договор на проведение испыт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пекционной провер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яются в виде заключения о соответствии или несоответствии средства связи установленным требованиям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ое подписывается руководителем органа по сертифик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заключению прилагаются протоколы испыта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ных в ходе инспекционной проверки привлеченной испытательной лабораторией (центр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FF0C7988-1F88-4461-83E2-570BC2F2A0D1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104480" y="325440"/>
            <a:ext cx="600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Алгоритм проведения 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6" name="Picture 213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9577440" cy="5370480"/>
          </a:xfrm>
          <a:prstGeom prst="rect">
            <a:avLst/>
          </a:prstGeom>
          <a:ln w="0">
            <a:noFill/>
          </a:ln>
        </p:spPr>
      </p:pic>
      <p:sp>
        <p:nvSpPr>
          <p:cNvPr id="2197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ЛАНОВ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Прямоугольник 3"/>
          <p:cNvSpPr/>
          <p:nvPr/>
        </p:nvSpPr>
        <p:spPr>
          <a:xfrm>
            <a:off x="2216160" y="4292640"/>
            <a:ext cx="865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Прямоугольник 9"/>
          <p:cNvSpPr/>
          <p:nvPr/>
        </p:nvSpPr>
        <p:spPr>
          <a:xfrm>
            <a:off x="8315280" y="2214720"/>
            <a:ext cx="289080" cy="2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Номер слайда 1"/>
          <p:cNvSpPr/>
          <p:nvPr/>
        </p:nvSpPr>
        <p:spPr>
          <a:xfrm>
            <a:off x="6105600" y="295200"/>
            <a:ext cx="2133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rebuchet MS"/>
              </a:rPr>
              <a:t> </a:t>
            </a:r>
            <a:fld id="{5748E566-8C8B-49E7-B5D6-614C9E3A39E0}" type="slidenum">
              <a:rPr b="0" lang="ru-RU" sz="31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104840" y="325440"/>
            <a:ext cx="6440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Calibri"/>
              </a:rPr>
              <a:t>Алгоритм проведения внеплановой инспекционной провер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199800" y="1197000"/>
            <a:ext cx="95058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НЕПЛАНОВ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3" name="Picture 300" descr=""/>
          <p:cNvPicPr/>
          <p:nvPr/>
        </p:nvPicPr>
        <p:blipFill>
          <a:blip r:embed="rId1"/>
          <a:stretch/>
        </p:blipFill>
        <p:spPr>
          <a:xfrm>
            <a:off x="119160" y="1568520"/>
            <a:ext cx="96692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Прямоугольник 3"/>
          <p:cNvSpPr/>
          <p:nvPr/>
        </p:nvSpPr>
        <p:spPr>
          <a:xfrm>
            <a:off x="3625920" y="2879640"/>
            <a:ext cx="6280200" cy="717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Этапы проведения внеплано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инспекционной прове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Прямоугольник 4"/>
          <p:cNvSpPr/>
          <p:nvPr/>
        </p:nvSpPr>
        <p:spPr>
          <a:xfrm>
            <a:off x="3440160" y="2878200"/>
            <a:ext cx="185760" cy="720720"/>
          </a:xfrm>
          <a:prstGeom prst="rect">
            <a:avLst/>
          </a:prstGeom>
          <a:solidFill>
            <a:srgbClr val="195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3:27:00Z</dcterms:created>
  <dc:creator>Елена А. Леткина</dc:creator>
  <dc:description/>
  <dc:language>en-US</dc:language>
  <cp:lastModifiedBy>Ольга</cp:lastModifiedBy>
  <cp:lastPrinted>2016-09-21T14:25:53Z</cp:lastPrinted>
  <dcterms:modified xsi:type="dcterms:W3CDTF">2016-10-03T14:04:15Z</dcterms:modified>
  <cp:revision>1173</cp:revision>
  <dc:subject/>
  <dc:title>Презентация PowerPoint</dc:title>
</cp:coreProperties>
</file>